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C5F-3EA7-4173-825A-B16C5F9F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52F-6AA2-4823-9A93-69B18B8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B50-8FE3-4A4B-B0D7-34F70CE7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0C7-CC1F-43FA-9315-CC0A3D84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655-12C4-4839-AAD3-CE4EA72B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2D93-6ADE-4492-93DE-A3A03D81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1986-CE42-4959-932D-5DAB0CC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7AAC-3F14-4686-B054-D7453196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EC7-057B-49CA-9B95-9F20EEA3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9032-C3C8-4520-9798-7360CC16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5302-C2AA-4677-9830-C181E18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810-C301-43DA-BB63-ABEB3EBE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A304-BC08-4BA8-9E80-9EAA863D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61B-30A3-4A9E-98DB-5735B5A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24D3-3DC3-4405-8CEB-40549D2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B29B-826F-47EA-A3A6-00B96E6E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4412-AB84-46C6-87FF-3B96F38D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5D1-B059-4F01-B17D-B6BBD0A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59B-ACC6-43F8-A1FE-78CA9463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03C-2B02-4D68-9B0E-08D24634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DEC-637C-49F7-999C-F2A26470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BF5-128B-4955-ADC3-FC54ADF8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3F6-A1C6-463E-BE5F-E9278EF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987-DB4C-4EF6-9D4A-98E39DA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2A86-6AC9-407E-A352-7541618E98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A865-A1CF-467D-8A7B-A263584FE6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484360" y="260280"/>
            <a:ext cx="4486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ărinţii atomulu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7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ândirea lumii vechi îşi găseşte cea mai luminoasă expresie în concepţiile filosofice ale Greciei antice. Încununarea gândirii materialiste o constituie teoria atomistă. Cuvântul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atom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 fost folosit pentru prima dată acum 2500 de ani. Atomii, aşa cum îi cunoaştem astăzi se aseamănă foarte puţin cu particulele concepute de filosofii din Abd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611280" y="4005360"/>
            <a:ext cx="2305080" cy="863640"/>
          </a:xfrm>
          <a:custGeom>
            <a:avLst/>
            <a:gdLst>
              <a:gd name="textAreaLeft" fmla="*/ 55800 w 2305080"/>
              <a:gd name="textAreaRight" fmla="*/ 2249280 w 2305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419640" y="4005360"/>
            <a:ext cx="2304720" cy="863640"/>
          </a:xfrm>
          <a:custGeom>
            <a:avLst/>
            <a:gdLst>
              <a:gd name="textAreaLeft" fmla="*/ 55800 w 2304720"/>
              <a:gd name="textAreaRight" fmla="*/ 2248920 w 230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7627" h="21600">
                <a:moveTo>
                  <a:pt x="0" y="0"/>
                </a:moveTo>
                <a:lnTo>
                  <a:pt x="57627" y="0"/>
                </a:lnTo>
                <a:lnTo>
                  <a:pt x="57627" y="21600"/>
                </a:lnTo>
                <a:lnTo>
                  <a:pt x="0" y="21600"/>
                </a:lnTo>
                <a:close/>
              </a:path>
              <a:path fill="lightenLess" w="57627" h="21600">
                <a:moveTo>
                  <a:pt x="0" y="0"/>
                </a:moveTo>
                <a:lnTo>
                  <a:pt x="57627" y="0"/>
                </a:lnTo>
                <a:lnTo>
                  <a:pt x="56227" y="1400"/>
                </a:lnTo>
                <a:lnTo>
                  <a:pt x="1400" y="1400"/>
                </a:lnTo>
                <a:close/>
              </a:path>
              <a:path fill="darken" w="57627" h="21600">
                <a:moveTo>
                  <a:pt x="57627" y="0"/>
                </a:moveTo>
                <a:lnTo>
                  <a:pt x="57627" y="21600"/>
                </a:lnTo>
                <a:lnTo>
                  <a:pt x="56227" y="20200"/>
                </a:lnTo>
                <a:lnTo>
                  <a:pt x="56227" y="1400"/>
                </a:lnTo>
                <a:close/>
              </a:path>
              <a:path fill="darkenLess" w="57627" h="21600">
                <a:moveTo>
                  <a:pt x="57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27" y="20200"/>
                </a:lnTo>
                <a:close/>
              </a:path>
              <a:path fill="lighten" w="57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419640" y="5589720"/>
            <a:ext cx="2304720" cy="863640"/>
          </a:xfrm>
          <a:custGeom>
            <a:avLst/>
            <a:gdLst>
              <a:gd name="textAreaLeft" fmla="*/ 55800 w 2304720"/>
              <a:gd name="textAreaRight" fmla="*/ 2248920 w 230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7627" h="21600">
                <a:moveTo>
                  <a:pt x="0" y="0"/>
                </a:moveTo>
                <a:lnTo>
                  <a:pt x="57627" y="0"/>
                </a:lnTo>
                <a:lnTo>
                  <a:pt x="57627" y="21600"/>
                </a:lnTo>
                <a:lnTo>
                  <a:pt x="0" y="21600"/>
                </a:lnTo>
                <a:close/>
              </a:path>
              <a:path fill="lightenLess" w="57627" h="21600">
                <a:moveTo>
                  <a:pt x="0" y="0"/>
                </a:moveTo>
                <a:lnTo>
                  <a:pt x="57627" y="0"/>
                </a:lnTo>
                <a:lnTo>
                  <a:pt x="56227" y="1400"/>
                </a:lnTo>
                <a:lnTo>
                  <a:pt x="1400" y="1400"/>
                </a:lnTo>
                <a:close/>
              </a:path>
              <a:path fill="darken" w="57627" h="21600">
                <a:moveTo>
                  <a:pt x="57627" y="0"/>
                </a:moveTo>
                <a:lnTo>
                  <a:pt x="57627" y="21600"/>
                </a:lnTo>
                <a:lnTo>
                  <a:pt x="56227" y="20200"/>
                </a:lnTo>
                <a:lnTo>
                  <a:pt x="56227" y="1400"/>
                </a:lnTo>
                <a:close/>
              </a:path>
              <a:path fill="darkenLess" w="57627" h="21600">
                <a:moveTo>
                  <a:pt x="57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27" y="20200"/>
                </a:lnTo>
                <a:close/>
              </a:path>
              <a:path fill="lighten" w="57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468360" y="5589720"/>
            <a:ext cx="2519280" cy="863640"/>
          </a:xfrm>
          <a:custGeom>
            <a:avLst/>
            <a:gdLst>
              <a:gd name="textAreaLeft" fmla="*/ 55800 w 2519280"/>
              <a:gd name="textAreaRight" fmla="*/ 2463480 w 2519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2991" h="21600">
                <a:moveTo>
                  <a:pt x="0" y="0"/>
                </a:moveTo>
                <a:lnTo>
                  <a:pt x="62991" y="0"/>
                </a:lnTo>
                <a:lnTo>
                  <a:pt x="62991" y="21600"/>
                </a:lnTo>
                <a:lnTo>
                  <a:pt x="0" y="21600"/>
                </a:lnTo>
                <a:close/>
              </a:path>
              <a:path fill="lightenLess" w="62991" h="21600">
                <a:moveTo>
                  <a:pt x="0" y="0"/>
                </a:moveTo>
                <a:lnTo>
                  <a:pt x="62991" y="0"/>
                </a:lnTo>
                <a:lnTo>
                  <a:pt x="61591" y="1400"/>
                </a:lnTo>
                <a:lnTo>
                  <a:pt x="1400" y="1400"/>
                </a:lnTo>
                <a:close/>
              </a:path>
              <a:path fill="darken" w="62991" h="21600">
                <a:moveTo>
                  <a:pt x="62991" y="0"/>
                </a:moveTo>
                <a:lnTo>
                  <a:pt x="62991" y="21600"/>
                </a:lnTo>
                <a:lnTo>
                  <a:pt x="61591" y="20200"/>
                </a:lnTo>
                <a:lnTo>
                  <a:pt x="61591" y="1400"/>
                </a:lnTo>
                <a:close/>
              </a:path>
              <a:path fill="darkenLess" w="62991" h="21600">
                <a:moveTo>
                  <a:pt x="6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91" y="20200"/>
                </a:lnTo>
                <a:close/>
              </a:path>
              <a:path fill="lighten" w="6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6300720" y="5589720"/>
            <a:ext cx="2519280" cy="863640"/>
          </a:xfrm>
          <a:custGeom>
            <a:avLst/>
            <a:gdLst>
              <a:gd name="textAreaLeft" fmla="*/ 55800 w 2519280"/>
              <a:gd name="textAreaRight" fmla="*/ 2463480 w 2519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2991" h="21600">
                <a:moveTo>
                  <a:pt x="0" y="0"/>
                </a:moveTo>
                <a:lnTo>
                  <a:pt x="62991" y="0"/>
                </a:lnTo>
                <a:lnTo>
                  <a:pt x="62991" y="21600"/>
                </a:lnTo>
                <a:lnTo>
                  <a:pt x="0" y="21600"/>
                </a:lnTo>
                <a:close/>
              </a:path>
              <a:path fill="lightenLess" w="62991" h="21600">
                <a:moveTo>
                  <a:pt x="0" y="0"/>
                </a:moveTo>
                <a:lnTo>
                  <a:pt x="62991" y="0"/>
                </a:lnTo>
                <a:lnTo>
                  <a:pt x="61591" y="1400"/>
                </a:lnTo>
                <a:lnTo>
                  <a:pt x="1400" y="1400"/>
                </a:lnTo>
                <a:close/>
              </a:path>
              <a:path fill="darken" w="62991" h="21600">
                <a:moveTo>
                  <a:pt x="62991" y="0"/>
                </a:moveTo>
                <a:lnTo>
                  <a:pt x="62991" y="21600"/>
                </a:lnTo>
                <a:lnTo>
                  <a:pt x="61591" y="20200"/>
                </a:lnTo>
                <a:lnTo>
                  <a:pt x="61591" y="1400"/>
                </a:lnTo>
                <a:close/>
              </a:path>
              <a:path fill="darkenLess" w="62991" h="21600">
                <a:moveTo>
                  <a:pt x="6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91" y="20200"/>
                </a:lnTo>
                <a:close/>
              </a:path>
              <a:path fill="lighten" w="6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6300720" y="4005360"/>
            <a:ext cx="2592360" cy="863640"/>
          </a:xfrm>
          <a:custGeom>
            <a:avLst/>
            <a:gdLst>
              <a:gd name="textAreaLeft" fmla="*/ 55800 w 2592360"/>
              <a:gd name="textAreaRight" fmla="*/ 2536560 w 259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4818" h="21600">
                <a:moveTo>
                  <a:pt x="0" y="0"/>
                </a:moveTo>
                <a:lnTo>
                  <a:pt x="64818" y="0"/>
                </a:lnTo>
                <a:lnTo>
                  <a:pt x="64818" y="21600"/>
                </a:lnTo>
                <a:lnTo>
                  <a:pt x="0" y="21600"/>
                </a:lnTo>
                <a:close/>
              </a:path>
              <a:path fill="lightenLess" w="64818" h="21600">
                <a:moveTo>
                  <a:pt x="0" y="0"/>
                </a:moveTo>
                <a:lnTo>
                  <a:pt x="64818" y="0"/>
                </a:lnTo>
                <a:lnTo>
                  <a:pt x="63418" y="1400"/>
                </a:lnTo>
                <a:lnTo>
                  <a:pt x="1400" y="1400"/>
                </a:lnTo>
                <a:close/>
              </a:path>
              <a:path fill="darken" w="64818" h="21600">
                <a:moveTo>
                  <a:pt x="64818" y="0"/>
                </a:moveTo>
                <a:lnTo>
                  <a:pt x="64818" y="21600"/>
                </a:lnTo>
                <a:lnTo>
                  <a:pt x="63418" y="20200"/>
                </a:lnTo>
                <a:lnTo>
                  <a:pt x="63418" y="1400"/>
                </a:lnTo>
                <a:close/>
              </a:path>
              <a:path fill="darkenLess" w="64818" h="21600">
                <a:moveTo>
                  <a:pt x="64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18" y="20200"/>
                </a:lnTo>
                <a:close/>
              </a:path>
              <a:path fill="lighten" w="64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22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eucip si Democr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3851280" y="42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J. Dal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2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Joseph John Thom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r Ernest Ruther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iels Bo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580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Erwin Schrodin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773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losofii greci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Leucip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şi </a:t>
            </a:r>
            <a:r>
              <a:rPr b="1" i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Democrit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au afirmat, că universul este alcătuit din particule invizibile, indivizibile - atomi - separate prin vid; diversitatea corpurilor şi fenomenelor din natură se explică prin aceea că atomii au forme şi mărimi diferite şi au proprietatea de a intra în combinaţii diverse. Prima teorie atomică a lui Democrit nu s-a putut impune din lipsa dovezilor experimentale; cu toate acestea a influenţat şi inspirat savanţii de-a lungul timpulu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95640" y="47628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ucip şi Democrit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56360" y="4432320"/>
            <a:ext cx="1616040" cy="242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817640" cy="2492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979640" y="4869000"/>
            <a:ext cx="1008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43280" y="515772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843280" y="4365720"/>
            <a:ext cx="1514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ucip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720" y="6134040"/>
            <a:ext cx="1285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mocrit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459640" y="6021360"/>
            <a:ext cx="684360" cy="836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36640"/>
              <a:gd name="textAreaBottom" fmla="*/ 792360 h 836640"/>
            </a:gdLst>
            <a:ahLst/>
            <a:rect l="textAreaLeft" t="textAreaTop" r="textAreaRight" b="textAreaBottom"/>
            <a:pathLst>
              <a:path w="21600" h="26404">
                <a:moveTo>
                  <a:pt x="0" y="0"/>
                </a:moveTo>
                <a:lnTo>
                  <a:pt x="21600" y="0"/>
                </a:lnTo>
                <a:lnTo>
                  <a:pt x="21600" y="26404"/>
                </a:lnTo>
                <a:lnTo>
                  <a:pt x="0" y="26404"/>
                </a:lnTo>
                <a:close/>
              </a:path>
              <a:path fill="lightenLess" w="21600" h="264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4">
                <a:moveTo>
                  <a:pt x="21600" y="0"/>
                </a:moveTo>
                <a:lnTo>
                  <a:pt x="21600" y="26404"/>
                </a:lnTo>
                <a:lnTo>
                  <a:pt x="20200" y="25004"/>
                </a:lnTo>
                <a:lnTo>
                  <a:pt x="20200" y="1400"/>
                </a:lnTo>
                <a:close/>
              </a:path>
              <a:path fill="darkenLess" w="21600" h="26404">
                <a:moveTo>
                  <a:pt x="21600" y="26404"/>
                </a:moveTo>
                <a:lnTo>
                  <a:pt x="0" y="26404"/>
                </a:lnTo>
                <a:lnTo>
                  <a:pt x="1400" y="25004"/>
                </a:lnTo>
                <a:lnTo>
                  <a:pt x="20200" y="25004"/>
                </a:lnTo>
                <a:close/>
              </a:path>
              <a:path fill="lighten" w="21600" h="26404">
                <a:moveTo>
                  <a:pt x="0" y="264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4"/>
                </a:lnTo>
                <a:close/>
              </a:path>
              <a:path fill="darken" w="21600" h="26404">
                <a:moveTo>
                  <a:pt x="3794" y="13202"/>
                </a:moveTo>
                <a:lnTo>
                  <a:pt x="17806" y="6195"/>
                </a:lnTo>
                <a:lnTo>
                  <a:pt x="17806" y="20208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47640" y="184464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43280" y="189000"/>
            <a:ext cx="2990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ohn Dalto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557360"/>
            <a:ext cx="777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himistul şi fizicianul englez </a:t>
            </a:r>
            <a:r>
              <a:rPr b="1" i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John Dalton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(1805) a formulat ipoteza că toate substanţele sunt formate din particule mici de materie numite atomi, după cuvântul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atomos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n limba greacă (indivizibil). John Dalton (1766 – 1844) consideră că un element chimic este alcătuit, dintr-o mulţime de at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ecare atom, fiind indivizibil, se poate uni numai cu un număr întreg de alţi atomi formând substanţe dife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J. Dalton este considerat părintele teoriei atomis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nfirmarea experimentală a teoriei atomiste ridică chimia pe o treaptă superioară. Începutul secolului al XlX-lea marchează trecerea la valorificarea datelor experimentale pentru formularea de generalizări teoret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xperimentele efectuate de-a lungul secolelor al XlX-lea ş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l XX-lea au dus treptat la concluzia că atomii, particule foarte mici şi stabile au o structură complex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10800"/>
                </a:moveTo>
                <a:lnTo>
                  <a:pt x="18624" y="3794"/>
                </a:lnTo>
                <a:lnTo>
                  <a:pt x="18624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63640" y="260280"/>
            <a:ext cx="6153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oseph John Thomson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ir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Joseph John Thomson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(1856 - 1940) - fizician englez, a propus un 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model static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l atomului; el a presupus că atomul trebuie să fie form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nt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fer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ormă, de electricitate pozitivă, în care se găsesc electroni astfel înc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atomul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ie neutru din punct de vedere electr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odelul nu explică distribuirea sarcinilor pozitive fără să se 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ng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 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nu 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oate răspunde la o serie de constatări experiment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10895"/>
                </a:moveTo>
                <a:lnTo>
                  <a:pt x="17806" y="3889"/>
                </a:lnTo>
                <a:lnTo>
                  <a:pt x="17806" y="17901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68360" y="3933720"/>
            <a:ext cx="36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81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zicianul englez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r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rnest Rutherfor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1871 - 1937 ) a stabilit existenţa nucleului atomic şi a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pus baz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e unui model dinamic al atomului, modelul planetar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(1911); atomul este format din un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nucleu central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are conţine sarcina pozitivă a atomului şi aproximativ întreaga sa masă şi o „atmosferă înconjurătoare“ formată din un număr necesar de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electron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stfel încât atomul să fie neutru; pentru ca electronii să se menţină la o anumită distanţă de nucleu, ei trebuie să se mişte cu o viteză foarte mare, astfel încât forţa centrifugă să echilibreze forţa de atracţie electrostatică a nucleulu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cest model duce la concluzia că atomul nu este stabil: electronul, în mişcare va emite continuu o radiaţie electromagnetică, energia sa va scădea treptat ducând la „căderea" lui pe nucl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xperimental s-a demonstrat că atomul este stabil şi nu emite radiaţii în stare fundamental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835280" y="260280"/>
            <a:ext cx="536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r Ernest Rutherford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10927"/>
                </a:moveTo>
                <a:lnTo>
                  <a:pt x="17806" y="3920"/>
                </a:lnTo>
                <a:lnTo>
                  <a:pt x="17806" y="17933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68360" y="4599000"/>
            <a:ext cx="25387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5280" y="9079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zicianul danez 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Niels Boh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885 -1962) a dezvoltat ideile lui Rutherford şi a conceput primul model atomic care a putut explica destul de bine multe proprietăţi ale atomului de hidrogen; el a comparat atomul cu un sistem solar: nucleul ţine locul Soarelui, iar electronii - locul planetelor, care se rotesc pe orbitele 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ucleul atomului lui Bohr este înconjurat de electroni care se deplasează numai pe anumite orbite mai apropiate sau mai depărtate de nucleu, fără să emită radiaţ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Ulterior, teoria lui Bohr s-a dovedit insuficientă pentru explicarea un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apte experimentale şi a problemelor cantitative dintre 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32000" y="189000"/>
            <a:ext cx="27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els Bohr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11772"/>
                </a:moveTo>
                <a:lnTo>
                  <a:pt x="17806" y="4765"/>
                </a:lnTo>
                <a:lnTo>
                  <a:pt x="17806" y="18778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195640" y="3683160"/>
            <a:ext cx="40352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1052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Erwin Schrodin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1887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- 1961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zician austriac a dezvoltat modelul lui Bohr, considerând că electronul nu se deplasează pe anumite orbite distincte, ci el este distribuit sub forma unui nor în jurul nucleului; distribuţia unui electron sub formă de nor a fost denumită orbital atom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otarea orbitalilor cu literele s, p, d, f arată unele caracteristici din spectroscopie: 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harp = precis, fix, exact; p-principal; d-difuz; f-f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ci, atomul trebuie imaginat ca având un nucleu încărcat pozitiv înconjurat de un nor electronic, cu sarcină negativă, difuz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24000" y="189000"/>
            <a:ext cx="491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rwin Schrodinger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24000" y="3457440"/>
            <a:ext cx="4322880" cy="3400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3794"/>
                </a:moveTo>
                <a:lnTo>
                  <a:pt x="20154" y="10800"/>
                </a:lnTo>
                <a:lnTo>
                  <a:pt x="6141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1628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rsă bibliografică "Chimie - manual clasa a IX-a, Editura Didactică şi Pedagogică, R.A. Bucureşti, 2006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endshow"/>
          </p:cNvPr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8221" y="10800"/>
                </a:moveTo>
                <a:lnTo>
                  <a:pt x="7715" y="17806"/>
                </a:lnTo>
                <a:lnTo>
                  <a:pt x="7715" y="3794"/>
                </a:lnTo>
                <a:close/>
              </a:path>
              <a:path fill="darken" w="29443" h="21600">
                <a:moveTo>
                  <a:pt x="20066" y="3794"/>
                </a:moveTo>
                <a:lnTo>
                  <a:pt x="20066" y="17806"/>
                </a:lnTo>
                <a:lnTo>
                  <a:pt x="21728" y="17806"/>
                </a:lnTo>
                <a:lnTo>
                  <a:pt x="21728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17:10Z</dcterms:created>
  <dc:creator>Surugiu</dc:creator>
  <dc:description/>
  <dc:language>en-US</dc:language>
  <cp:lastModifiedBy>Scoala Mihai Viteazu</cp:lastModifiedBy>
  <dcterms:modified xsi:type="dcterms:W3CDTF">2009-10-27T13:21:18Z</dcterms:modified>
  <cp:revision>11</cp:revision>
  <dc:subject/>
  <dc:title>Diapozitivul 1</dc:title>
</cp:coreProperties>
</file>